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71AD0-62E1-4DAC-A61C-8975BD583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EA86-C20E-4488-A817-3BEBD9CC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51F87-07B2-4971-A7FE-79C082FD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E7B9D-CCD8-4299-A7FB-809C9B7B8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AB4AE-B111-4004-997A-47245C0EE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C06B-4B65-4A44-B7BF-5890D576C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DEAB1-93A0-4E85-87BF-35700D0D6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5A7F1-FC07-4E56-BA7F-1F94C0E14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45039-D35F-41FD-B3FD-FFC5F3513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F16B2-4BE7-4994-9642-8D919398D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22494-76F2-4AC0-A6F5-CD1E3804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C122-8D09-4635-8C87-38521037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60159-0ED4-441D-BBAF-5D7CF79A2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EB735-707A-4EC8-98CB-CE0F76576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A9387-CB5C-4C3E-9EC2-4EE0579B3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24FB2-D2C7-4B3F-A7E4-3F2831DF5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D2826-3DBA-4D2B-9431-8D785ED71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15DCCF-2B2A-4135-85DD-B280FDACA4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A56D5-3E3C-4006-A265-CF9D1B6A7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60056-D222-4F43-8D77-513C84649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8A958-6AAE-489F-81D0-C384F6136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18BB7-2C0E-4844-B292-D5C1BFF2B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6DC8-DA7E-44D2-84FB-9EFFD1AE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4EA11-6F82-4036-9A76-6E153D0D6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21563-7E91-4F36-B952-52DE29AE3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7F39A-9E2F-477C-83A8-7F52E9289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A38BE-FCB9-4A50-9707-04A6D25ED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61A88-85AB-48D2-931A-E31DF90E5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89669-625F-483C-B20D-BF0EA35026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EE9B7-4D1E-4130-B853-7F0D664216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2871CF-2DAF-4ED2-8925-FC0C5580AC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8144AD-4CA2-4EB9-9133-42FE2DBC8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962A7-D00B-4548-9F5F-EEE717D01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1119D-03D8-42FF-BE8B-C4A074B1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E8F2A-B9C7-47A8-926D-3DBBF5891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07F26-8EA2-4352-ADAB-CC87D55F0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9EB29-A77F-4E0D-81E4-77041F234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00D1F-AC37-43A3-84D4-CC3ED7AAB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11A8E-6477-4388-A731-DB36F0C80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8F1A3-5555-414E-9F49-C77ED2BD9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C97A4-8D87-4AA8-98D9-087AEC061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6C44A6-4858-40A4-893A-F24DDD190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E4431-B1E4-4B18-8123-CEC172596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95B7D-3301-41FA-92BF-81922D84C6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FF8BA-18CF-4431-B549-AD8AFC616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ACA9D-EF02-4B65-AF4D-CC888C064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B59EF4-2BD0-45F9-A7AB-B778ED565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B16A3-5567-4C90-BD42-119F16CD0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F93064-73F1-40FA-90FF-52094B518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F4B18-D160-4C13-A084-00948CF2C5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1D470-4853-42B2-A4D0-AD27AAA14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AE10F-E09C-4722-9FA4-11EF0C6FC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B9174-E2D8-4EAC-A127-F84C5505B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8FE9EE-8CD2-4D48-A5E4-8E1B04F46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442C3-99E8-40D6-B9C8-C458F3C71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B796-7B26-43FA-BF0C-521CA6DE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9CD4D-0E3C-4A3B-B264-1121435639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1FD3AC-603C-43E4-9402-DDA555863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E45B53-0F44-4801-B129-55D65710C5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5E96F-9174-4711-93DD-8C8477802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3D6B3-3B76-493B-AECA-5F8FD8EA0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9AF90-F14E-4BB9-AAFA-B6FB97DCF9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1D498-A46C-4A3D-B4ED-D20E66343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1AC1E-043B-4341-9A95-D9C84123E4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7C7EE-4EB8-4F39-8D51-F69DDB7BA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6740F-ED97-4ED7-834F-4DC2D2AF7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7030-6FD1-431C-B849-98D787DF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070D2-9081-45D5-AB72-954BB1DE7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C00504-4B9E-4A65-B98D-1A773DF85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727E0-466C-4B0F-88AA-AC00992B34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D47619-2FD2-4908-9E64-C358993AD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35FB92-F699-40C3-921B-C5205AAB2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13A4E5-83F7-4181-BDA9-0820CE022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4FDCC-2960-4236-8990-4AA0360F3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FBF654-5819-420E-B624-035659E02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EDA01-6735-46D1-A6E5-B562389637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0BFB2-52AC-4437-89A5-A6BB8AEBC9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9075-D2A4-47C9-848B-9CB7C8E94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11099-D569-477A-A7A0-85F8F8AA1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ACEA9-EF2D-41C3-B410-D7E910DA8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55C5C-D3A9-4937-A0D1-2097F9558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89E36D-C743-4E96-B98A-FFACF976FE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D6CF3-298E-4175-88A3-7F5A9CCF99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A768E7-5863-42BF-B7F7-0F7A46DF6B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C20DC-383F-43FB-91CF-17D199885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13BE8-7DFD-4D67-9774-C9AEEE6052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FAD83E-E0F9-4E62-9B50-96D626FBF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F0CB4-62EA-4DEF-9E68-6087B1918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F34C-6B95-4BEF-B89D-1EC1402E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C0E85-7551-4CE0-8205-3E400858F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49899-EE5A-47F6-89A2-4D6EB09FE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1E355-A1E2-4F88-B5CA-71C030A76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90FB1-B123-4AE1-96AB-8D05DA322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8146F-B2B5-41CB-BB6A-A2D529F6C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BD378-56E1-4135-B7A7-EA902D171B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175163-B54D-4628-B6F9-1D1021854AD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0A03-BFEC-4940-81A3-F99AA8E9517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6AB6-E438-47B8-9565-65C6DAC1B91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6E51-5495-4457-BEE8-7A268B60A5C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6438-44A1-4AC2-8F62-9F051C09EBD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7F73-F244-41C5-9B6C-8B481CED59F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B90C-2FDA-4959-B8E0-32FE4ABB6CF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16FF-616A-4734-8786-7A270D55158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18F1-0E5B-451C-94DA-C53E5CAC0D3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1" name="PlaceHolder 2"/>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372" name="Rectangle 3" descr=""/>
          <p:cNvPicPr/>
          <p:nvPr/>
        </p:nvPicPr>
        <p:blipFill>
          <a:blip r:embed="rId1"/>
          <a:stretch/>
        </p:blipFill>
        <p:spPr>
          <a:xfrm>
            <a:off x="1365120" y="1487520"/>
            <a:ext cx="5883480" cy="17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2" descr=""/>
          <p:cNvPicPr/>
          <p:nvPr/>
        </p:nvPicPr>
        <p:blipFill>
          <a:blip r:embed="rId1"/>
          <a:stretch/>
        </p:blipFill>
        <p:spPr>
          <a:xfrm>
            <a:off x="195120" y="268200"/>
            <a:ext cx="8498160" cy="1158840"/>
          </a:xfrm>
          <a:prstGeom prst="rect">
            <a:avLst/>
          </a:prstGeom>
          <a:ln w="0">
            <a:noFill/>
          </a:ln>
        </p:spPr>
      </p:pic>
      <p:sp>
        <p:nvSpPr>
          <p:cNvPr id="414" name="Straight Connector 3"/>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4"/>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Straight Connector 5"/>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6"/>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Box 7"/>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419" name="TextBox 8"/>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420" name="TextBox 9"/>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421" name="Straight Connector 11"/>
          <p:cNvSpPr/>
          <p:nvPr/>
        </p:nvSpPr>
        <p:spPr>
          <a:xfrm flipH="1">
            <a:off x="3656160" y="3354480"/>
            <a:ext cx="2880" cy="2361960"/>
          </a:xfrm>
          <a:prstGeom prst="line">
            <a:avLst/>
          </a:prstGeom>
          <a:ln w="9360">
            <a:solidFill>
              <a:srgbClr val="2da2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3"/>
          <p:cNvSpPr/>
          <p:nvPr/>
        </p:nvSpPr>
        <p:spPr>
          <a:xfrm flipH="1">
            <a:off x="4646160" y="1830240"/>
            <a:ext cx="3240" cy="38862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Box 14"/>
          <p:cNvSpPr/>
          <p:nvPr/>
        </p:nvSpPr>
        <p:spPr>
          <a:xfrm>
            <a:off x="3276720" y="5791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DP</a:t>
            </a:r>
            <a:endParaRPr b="0" lang="en-US" sz="1800" spc="-1" strike="noStrike">
              <a:solidFill>
                <a:srgbClr val="000000"/>
              </a:solidFill>
              <a:latin typeface="Arial"/>
            </a:endParaRPr>
          </a:p>
        </p:txBody>
      </p:sp>
      <p:sp>
        <p:nvSpPr>
          <p:cNvPr id="424" name="TextBox 15"/>
          <p:cNvSpPr/>
          <p:nvPr/>
        </p:nvSpPr>
        <p:spPr>
          <a:xfrm>
            <a:off x="4495680" y="57913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GDP</a:t>
            </a:r>
            <a:endParaRPr b="0" lang="en-US" sz="1800" spc="-1" strike="noStrike">
              <a:solidFill>
                <a:srgbClr val="000000"/>
              </a:solidFill>
              <a:latin typeface="Arial"/>
            </a:endParaRPr>
          </a:p>
        </p:txBody>
      </p:sp>
      <p:sp>
        <p:nvSpPr>
          <p:cNvPr id="425" name="TextBox 16"/>
          <p:cNvSpPr/>
          <p:nvPr/>
        </p:nvSpPr>
        <p:spPr>
          <a:xfrm>
            <a:off x="7848720" y="594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GDP</a:t>
            </a:r>
            <a:endParaRPr b="0" lang="en-US" sz="1800" spc="-1" strike="noStrike">
              <a:solidFill>
                <a:srgbClr val="000000"/>
              </a:solidFill>
              <a:latin typeface="Arial"/>
            </a:endParaRPr>
          </a:p>
        </p:txBody>
      </p:sp>
      <p:sp>
        <p:nvSpPr>
          <p:cNvPr id="426" name="Straight Connector 18"/>
          <p:cNvSpPr/>
          <p:nvPr/>
        </p:nvSpPr>
        <p:spPr>
          <a:xfrm>
            <a:off x="3657600" y="4648320"/>
            <a:ext cx="990720" cy="1440"/>
          </a:xfrm>
          <a:prstGeom prst="line">
            <a:avLst/>
          </a:prstGeom>
          <a:ln w="381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27" name="Straight Arrow Connector 20"/>
          <p:cNvCxnSpPr/>
          <p:nvPr/>
        </p:nvCxnSpPr>
        <p:spPr>
          <a:xfrm flipH="1">
            <a:off x="4266360" y="3733920"/>
            <a:ext cx="1220040" cy="838800"/>
          </a:xfrm>
          <a:prstGeom prst="straightConnector1">
            <a:avLst/>
          </a:prstGeom>
          <a:ln w="9360">
            <a:solidFill>
              <a:srgbClr val="2da2bf"/>
            </a:solidFill>
            <a:miter/>
            <a:tailEnd len="med" type="arrow" w="med"/>
          </a:ln>
        </p:spPr>
      </p:cxnSp>
      <p:sp>
        <p:nvSpPr>
          <p:cNvPr id="428" name="TextBox 21"/>
          <p:cNvSpPr/>
          <p:nvPr/>
        </p:nvSpPr>
        <p:spPr>
          <a:xfrm>
            <a:off x="5562720" y="3581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cessionary G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755640" y="457200"/>
            <a:ext cx="8223120" cy="1554120"/>
          </a:xfrm>
          <a:prstGeom prst="rect">
            <a:avLst/>
          </a:prstGeom>
          <a:ln w="0">
            <a:noFill/>
          </a:ln>
        </p:spPr>
      </p:pic>
      <p:sp>
        <p:nvSpPr>
          <p:cNvPr id="374" name="PlaceHolder 1"/>
          <p:cNvSpPr>
            <a:spLocks noGrp="1"/>
          </p:cNvSpPr>
          <p:nvPr>
            <p:ph type="subTitle"/>
          </p:nvPr>
        </p:nvSpPr>
        <p:spPr>
          <a:xfrm>
            <a:off x="1066320" y="2057400"/>
            <a:ext cx="6705720" cy="35812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PC: the marginal propensity to consume</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nge in consumption/ Change in disposable income</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slope of expenditure schedul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used by changes in DI</a:t>
            </a: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ectations of future outcom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ct improvements in financial situations in the future, we may spend more now without any current increase in DI</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l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ets that have value and can be an additional source of purchasing power beyond your DI (stock market boom shifts CF up)</a:t>
            </a:r>
            <a:endParaRPr b="0" lang="en-US" sz="2300" spc="-1" strike="noStrike">
              <a:solidFill>
                <a:srgbClr val="000000"/>
              </a:solidFill>
              <a:latin typeface="Lucida Sans Unicode"/>
            </a:endParaRPr>
          </a:p>
        </p:txBody>
      </p:sp>
      <p:pic>
        <p:nvPicPr>
          <p:cNvPr id="378" name="Title 1" descr=""/>
          <p:cNvPicPr/>
          <p:nvPr/>
        </p:nvPicPr>
        <p:blipFill>
          <a:blip r:embed="rId1"/>
          <a:stretch/>
        </p:blipFill>
        <p:spPr>
          <a:xfrm>
            <a:off x="22536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ice level chang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ur wealth is held in money fixed assets priced in today’s dollars.  If price levels increase the purchasing power of those assets goes down because they can’t buy as much at higher price level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l interest rat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er real interest rates encourage savings and discourage spend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5773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neral Theory of Employ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EGDP falls below PGDP unemployment and recession will resul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EGDP falls above PGDP inflation will result</a:t>
            </a: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Lucida Sans Unicode"/>
              </a:rPr>
              <a:t>Recession Abroad</a:t>
            </a:r>
            <a:endParaRPr b="0" lang="en-US" sz="66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225360" y="268200"/>
            <a:ext cx="8467920" cy="1158840"/>
          </a:xfrm>
          <a:prstGeom prst="rect">
            <a:avLst/>
          </a:prstGeom>
          <a:ln w="0">
            <a:noFill/>
          </a:ln>
        </p:spPr>
      </p:pic>
      <p:sp>
        <p:nvSpPr>
          <p:cNvPr id="387" name="Straight Connector 4"/>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6"/>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Straight Connector 8"/>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10"/>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Box 11"/>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392" name="TextBox 12"/>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393" name="TextBox 13"/>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394" name="TextBox 14"/>
          <p:cNvSpPr/>
          <p:nvPr/>
        </p:nvSpPr>
        <p:spPr>
          <a:xfrm>
            <a:off x="6858000" y="57913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al GD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195120" y="268200"/>
            <a:ext cx="8498160" cy="1158840"/>
          </a:xfrm>
          <a:prstGeom prst="rect">
            <a:avLst/>
          </a:prstGeom>
          <a:ln w="0">
            <a:noFill/>
          </a:ln>
        </p:spPr>
      </p:pic>
      <p:sp>
        <p:nvSpPr>
          <p:cNvPr id="397" name="Straight Connector 3"/>
          <p:cNvSpPr/>
          <p:nvPr/>
        </p:nvSpPr>
        <p:spPr>
          <a:xfrm flipH="1">
            <a:off x="1217160" y="1754280"/>
            <a:ext cx="3240" cy="39621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4"/>
          <p:cNvSpPr/>
          <p:nvPr/>
        </p:nvSpPr>
        <p:spPr>
          <a:xfrm>
            <a:off x="1219320" y="5715000"/>
            <a:ext cx="6858000" cy="1440"/>
          </a:xfrm>
          <a:prstGeom prst="line">
            <a:avLst/>
          </a:prstGeom>
          <a:ln w="93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Straight Connector 5"/>
          <p:cNvSpPr/>
          <p:nvPr/>
        </p:nvSpPr>
        <p:spPr>
          <a:xfrm flipV="1">
            <a:off x="1219320" y="1676520"/>
            <a:ext cx="4038480" cy="40384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6"/>
          <p:cNvSpPr/>
          <p:nvPr/>
        </p:nvSpPr>
        <p:spPr>
          <a:xfrm flipV="1">
            <a:off x="1371600" y="2666520"/>
            <a:ext cx="5257800" cy="1143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Box 7"/>
          <p:cNvSpPr/>
          <p:nvPr/>
        </p:nvSpPr>
        <p:spPr>
          <a:xfrm>
            <a:off x="6858000" y="25909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I+G+(X-IM)</a:t>
            </a:r>
            <a:endParaRPr b="0" lang="en-US" sz="1800" spc="-1" strike="noStrike">
              <a:solidFill>
                <a:srgbClr val="000000"/>
              </a:solidFill>
              <a:latin typeface="Arial"/>
            </a:endParaRPr>
          </a:p>
        </p:txBody>
      </p:sp>
      <p:sp>
        <p:nvSpPr>
          <p:cNvPr id="402" name="TextBox 8"/>
          <p:cNvSpPr/>
          <p:nvPr/>
        </p:nvSpPr>
        <p:spPr>
          <a:xfrm>
            <a:off x="541008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p:txBody>
      </p:sp>
      <p:sp>
        <p:nvSpPr>
          <p:cNvPr id="403" name="TextBox 9"/>
          <p:cNvSpPr/>
          <p:nvPr/>
        </p:nvSpPr>
        <p:spPr>
          <a:xfrm>
            <a:off x="685800" y="1981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E</a:t>
            </a:r>
            <a:endParaRPr b="0" lang="en-US" sz="1800" spc="-1" strike="noStrike">
              <a:solidFill>
                <a:srgbClr val="000000"/>
              </a:solidFill>
              <a:latin typeface="Arial"/>
            </a:endParaRPr>
          </a:p>
        </p:txBody>
      </p:sp>
      <p:sp>
        <p:nvSpPr>
          <p:cNvPr id="404" name="Straight Connector 11"/>
          <p:cNvSpPr/>
          <p:nvPr/>
        </p:nvSpPr>
        <p:spPr>
          <a:xfrm flipH="1">
            <a:off x="2436480" y="2058840"/>
            <a:ext cx="3240" cy="3657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15"/>
          <p:cNvSpPr/>
          <p:nvPr/>
        </p:nvSpPr>
        <p:spPr>
          <a:xfrm flipH="1">
            <a:off x="3656160" y="3354480"/>
            <a:ext cx="2880" cy="2361960"/>
          </a:xfrm>
          <a:prstGeom prst="line">
            <a:avLst/>
          </a:prstGeom>
          <a:ln w="9360">
            <a:solidFill>
              <a:srgbClr val="2da2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Box 16"/>
          <p:cNvSpPr/>
          <p:nvPr/>
        </p:nvSpPr>
        <p:spPr>
          <a:xfrm>
            <a:off x="3352680" y="5791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DP</a:t>
            </a:r>
            <a:endParaRPr b="0" lang="en-US" sz="1800" spc="-1" strike="noStrike">
              <a:solidFill>
                <a:srgbClr val="000000"/>
              </a:solidFill>
              <a:latin typeface="Arial"/>
            </a:endParaRPr>
          </a:p>
        </p:txBody>
      </p:sp>
      <p:sp>
        <p:nvSpPr>
          <p:cNvPr id="407" name="TextBox 17"/>
          <p:cNvSpPr/>
          <p:nvPr/>
        </p:nvSpPr>
        <p:spPr>
          <a:xfrm>
            <a:off x="1981080" y="5791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GDP</a:t>
            </a:r>
            <a:endParaRPr b="0" lang="en-US" sz="1800" spc="-1" strike="noStrike">
              <a:solidFill>
                <a:srgbClr val="000000"/>
              </a:solidFill>
              <a:latin typeface="Arial"/>
            </a:endParaRPr>
          </a:p>
        </p:txBody>
      </p:sp>
      <p:sp>
        <p:nvSpPr>
          <p:cNvPr id="408" name="Straight Connector 19"/>
          <p:cNvSpPr/>
          <p:nvPr/>
        </p:nvSpPr>
        <p:spPr>
          <a:xfrm>
            <a:off x="2438280" y="4800600"/>
            <a:ext cx="1219320" cy="1440"/>
          </a:xfrm>
          <a:prstGeom prst="line">
            <a:avLst/>
          </a:prstGeom>
          <a:ln w="38160">
            <a:solidFill>
              <a:srgbClr val="2da2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409" name="Straight Arrow Connector 21"/>
          <p:cNvCxnSpPr/>
          <p:nvPr/>
        </p:nvCxnSpPr>
        <p:spPr>
          <a:xfrm flipH="1">
            <a:off x="3047400" y="4267080"/>
            <a:ext cx="991080" cy="457920"/>
          </a:xfrm>
          <a:prstGeom prst="straightConnector1">
            <a:avLst/>
          </a:prstGeom>
          <a:ln w="9360">
            <a:solidFill>
              <a:srgbClr val="2da2bf"/>
            </a:solidFill>
            <a:miter/>
            <a:tailEnd len="med" type="arrow" w="med"/>
          </a:ln>
        </p:spPr>
      </p:cxnSp>
      <p:sp>
        <p:nvSpPr>
          <p:cNvPr id="410" name="TextBox 22"/>
          <p:cNvSpPr/>
          <p:nvPr/>
        </p:nvSpPr>
        <p:spPr>
          <a:xfrm>
            <a:off x="4114800" y="38862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flationary Gap</a:t>
            </a:r>
            <a:endParaRPr b="0" lang="en-US" sz="1800" spc="-1" strike="noStrike">
              <a:solidFill>
                <a:srgbClr val="000000"/>
              </a:solidFill>
              <a:latin typeface="Arial"/>
            </a:endParaRPr>
          </a:p>
        </p:txBody>
      </p:sp>
      <p:sp>
        <p:nvSpPr>
          <p:cNvPr id="411" name="TextBox 23"/>
          <p:cNvSpPr/>
          <p:nvPr/>
        </p:nvSpPr>
        <p:spPr>
          <a:xfrm>
            <a:off x="7620120" y="5867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GD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34:01Z</dcterms:created>
  <dc:creator>Wilson.J721</dc:creator>
  <dc:description/>
  <dc:language>en-US</dc:language>
  <cp:lastModifiedBy>HP Authorized Customer</cp:lastModifiedBy>
  <dcterms:modified xsi:type="dcterms:W3CDTF">2009-01-27T21:47:41Z</dcterms:modified>
  <cp:revision>6</cp:revision>
  <dc:subject/>
  <dc:title>Slide 1</dc:title>
</cp:coreProperties>
</file>